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931A-9EAC-4663-88E4-6408550EBA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6A5F-81FE-4FA4-B9F3-54B207481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569D-EF86-4303-AFC5-CEA1D7F829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3011-DAAF-42F9-9417-7B7AA3AFF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DCE7A-121E-4235-A3EE-1437D2E7ED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36B32-1BDF-4672-933C-CB206B8737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56179-01EF-4DA5-BA1C-78EDDA3C0A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FEB6E-3C30-4D46-9FBF-732AEFEF80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A85C-11D5-41C2-B253-CD531099C7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C49B-4EA3-4FEB-8747-F0070A7824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EB2E-6D22-42BD-ADE8-AEC72CD935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BB78-0C68-481D-8931-5836BDB05E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723D-FDE6-4BEB-B905-F1CE784A27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D892-866E-4791-B2C9-B6977B2A57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C550-2F2B-480F-BF3E-2A636A0340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7F2D4-DEA3-4274-B79F-CA3C28A213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6AE1-3861-498D-A825-B1679CC4C3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13B6-9782-477C-BB0A-7466AB31E3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0388-B5A2-402C-A52B-0BCC93E035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EF7A-150B-4217-85A4-A957CC0C6F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C7C4-53CE-4F80-AA2D-CD3C28EB0B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091BE-CD18-4BD2-9177-BB7D57BDF7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7D1B2-8121-4A92-B7A2-A474CC8EB2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1BFB1-125A-4EBE-A7C1-F2A3E517DF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0571F-FDFF-4B11-A45A-9D7E9A6244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0A77A-67ED-486D-9CD8-F5ACF570A9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F3ED7-BA38-4CE9-9E68-617A1A61D1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C703E-D028-4B18-982F-38636C0722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16908" r="0" b="0"/>
          <a:stretch/>
        </p:blipFill>
        <p:spPr>
          <a:xfrm>
            <a:off x="0" y="0"/>
            <a:ext cx="9140760" cy="609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6640" indent="-3376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56120" indent="-33768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95600" indent="-3376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95600" indent="-337680"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95600" indent="-337680"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3429000" y="6248520"/>
            <a:ext cx="5715000" cy="457200"/>
            <a:chOff x="3429000" y="6248520"/>
            <a:chExt cx="5715000" cy="457200"/>
          </a:xfrm>
        </p:grpSpPr>
        <p:sp>
          <p:nvSpPr>
            <p:cNvPr id="3" name="Line 5"/>
            <p:cNvSpPr/>
            <p:nvPr/>
          </p:nvSpPr>
          <p:spPr>
            <a:xfrm>
              <a:off x="4024440" y="6307200"/>
              <a:ext cx="5119560" cy="0"/>
            </a:xfrm>
            <a:prstGeom prst="line">
              <a:avLst/>
            </a:prstGeom>
            <a:ln w="76320">
              <a:solidFill>
                <a:srgbClr val="ca53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429000" y="6248520"/>
              <a:ext cx="5616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r" pos="38894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© 2009 South-Western, Cengage Lear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3657600" y="6248520"/>
              <a:ext cx="1828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r" pos="38894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400" spc="-1" strike="noStrike">
                  <a:solidFill>
                    <a:srgbClr val="3f7ebd"/>
                  </a:solidFill>
                  <a:latin typeface="Arial"/>
                </a:rPr>
                <a:t>MARKE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ftr" idx="1"/>
          </p:nvPr>
        </p:nvSpPr>
        <p:spPr>
          <a:xfrm>
            <a:off x="685800" y="61718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2800" spc="-1" strike="noStrike">
                <a:solidFill>
                  <a:srgbClr val="b9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0" y="6296040"/>
            <a:ext cx="1371600" cy="0"/>
          </a:xfrm>
          <a:prstGeom prst="line">
            <a:avLst/>
          </a:prstGeom>
          <a:ln w="76320">
            <a:solidFill>
              <a:srgbClr val="00a5e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0" y="1752480"/>
            <a:ext cx="4570560" cy="1098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solidFill>
            <a:srgbClr val="b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2"/>
          </p:nvPr>
        </p:nvSpPr>
        <p:spPr>
          <a:xfrm>
            <a:off x="8457840" y="-3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66FB-1D6A-422D-907D-D60F9FA1F81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2314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6"/>
          <p:cNvGrpSpPr/>
          <p:nvPr/>
        </p:nvGrpSpPr>
        <p:grpSpPr>
          <a:xfrm>
            <a:off x="3429000" y="6248520"/>
            <a:ext cx="5715000" cy="457200"/>
            <a:chOff x="3429000" y="6248520"/>
            <a:chExt cx="5715000" cy="457200"/>
          </a:xfrm>
        </p:grpSpPr>
        <p:sp>
          <p:nvSpPr>
            <p:cNvPr id="52" name="Line 7"/>
            <p:cNvSpPr/>
            <p:nvPr/>
          </p:nvSpPr>
          <p:spPr>
            <a:xfrm>
              <a:off x="4024440" y="6307200"/>
              <a:ext cx="5119560" cy="0"/>
            </a:xfrm>
            <a:prstGeom prst="line">
              <a:avLst/>
            </a:prstGeom>
            <a:ln w="76320">
              <a:solidFill>
                <a:srgbClr val="ca53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8"/>
            <p:cNvSpPr/>
            <p:nvPr/>
          </p:nvSpPr>
          <p:spPr>
            <a:xfrm>
              <a:off x="3429000" y="6248520"/>
              <a:ext cx="5616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r" pos="38894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© 2009 South-Western, Cengage Lear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9"/>
            <p:cNvSpPr/>
            <p:nvPr/>
          </p:nvSpPr>
          <p:spPr>
            <a:xfrm>
              <a:off x="3657600" y="6248520"/>
              <a:ext cx="1828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r" pos="38894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400" spc="-1" strike="noStrike">
                  <a:solidFill>
                    <a:srgbClr val="3f7ebd"/>
                  </a:solidFill>
                  <a:latin typeface="Arial"/>
                </a:rPr>
                <a:t>MARKE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Line 10"/>
          <p:cNvSpPr/>
          <p:nvPr/>
        </p:nvSpPr>
        <p:spPr>
          <a:xfrm>
            <a:off x="0" y="6296040"/>
            <a:ext cx="1371600" cy="0"/>
          </a:xfrm>
          <a:prstGeom prst="line">
            <a:avLst/>
          </a:prstGeom>
          <a:ln w="76320">
            <a:solidFill>
              <a:srgbClr val="00a5e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0" y="2514600"/>
            <a:ext cx="1371600" cy="0"/>
          </a:xfrm>
          <a:prstGeom prst="line">
            <a:avLst/>
          </a:prstGeom>
          <a:ln w="76320">
            <a:solidFill>
              <a:srgbClr val="00a5e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solidFill>
            <a:srgbClr val="b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6640" indent="-3376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56120" indent="-33768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95600" indent="-3376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95600" indent="-337680"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95600" indent="-337680"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3"/>
          </p:nvPr>
        </p:nvSpPr>
        <p:spPr>
          <a:xfrm>
            <a:off x="8457840" y="-3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BB90-5F4E-4EFA-80AB-491989B10D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4"/>
          </p:nvPr>
        </p:nvSpPr>
        <p:spPr>
          <a:xfrm>
            <a:off x="685800" y="61718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2800" spc="-1" strike="noStrike">
                <a:solidFill>
                  <a:srgbClr val="b9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3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26CB-E6D1-44A3-A0CF-6BDCFBCD423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MARKETING STARTS </a:t>
            </a:r>
            <a:br>
              <a:rPr sz="4000"/>
            </a:b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WITH CUSTOMERS</a:t>
            </a:r>
            <a:endParaRPr b="1" lang="en-US" sz="40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2742840"/>
            <a:ext cx="777240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95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5302"/>
                </a:solidFill>
                <a:latin typeface="Arial"/>
              </a:rPr>
              <a:t>6-1</a:t>
            </a:r>
            <a:r>
              <a:rPr b="1" lang="en-US" sz="3200" spc="-1" strike="noStrike">
                <a:solidFill>
                  <a:srgbClr val="ca53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Consumer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5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5302"/>
                </a:solidFill>
                <a:latin typeface="Arial"/>
              </a:rPr>
              <a:t>6-2</a:t>
            </a:r>
            <a:r>
              <a:rPr b="1" lang="en-US" sz="3200" spc="-1" strike="noStrike">
                <a:solidFill>
                  <a:srgbClr val="ca53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otivates Buy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5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5302"/>
                </a:solidFill>
                <a:latin typeface="Arial"/>
              </a:rPr>
              <a:t>6-3</a:t>
            </a:r>
            <a:r>
              <a:rPr b="1" lang="en-US" sz="3200" spc="-1" strike="noStrike">
                <a:solidFill>
                  <a:srgbClr val="ca53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uencing Consumer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152280" y="15228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ca53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HAPTER</a:t>
            </a:r>
            <a:br>
              <a:rPr sz="32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813D-9C3B-4B6A-8F16-DFF60CF4A4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WHAT MOTIVATES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BUYERS?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cc00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types of buying mo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five steps of the consumer decision-making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8"/>
          <p:cNvSpPr/>
          <p:nvPr/>
        </p:nvSpPr>
        <p:spPr>
          <a:xfrm>
            <a:off x="152280" y="152280"/>
            <a:ext cx="1371600" cy="914400"/>
          </a:xfrm>
          <a:prstGeom prst="roundRect">
            <a:avLst>
              <a:gd name="adj" fmla="val 16667"/>
            </a:avLst>
          </a:prstGeom>
          <a:solidFill>
            <a:srgbClr val="ca53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-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754D-E125-4ACE-A57B-C160E6FDE4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Motiva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tiv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set of positive or negative factors that direct individual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ying Motiv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reason that you bu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7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decisions to spend money on products and services are influenced by buying motiv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4D8C-149C-444C-9281-FA59B71F23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3 Categories of Buying Motive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motional motiv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reasons to purchase based to feelings, beliefs, or attitu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s of love, affection, guilt, fear, or passion often compel consumers to bu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lmark Cards &amp; Gifts – Love, Af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Systems – F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F4B6-7BEB-4916-BA5F-4BE8558E426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3 Categories of Buying Motive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tional motiv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reasons to buy based on facts or log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of Rational: Saving time or money; Obtaining highest quality or greatest va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for Expensive Purch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usiness consumers try to avoid emotiona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4B1B-F983-4F5C-B35A-AB5C193D0B8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3 Categories of Buying Motive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tronage motiv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based on loyal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rage consumers to purchase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articular business or particular br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yalty is influenced by positive previous experiences or close identification with the product or busi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prices, high quality, friendly staff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customer service, convenient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0AAA-B3FE-4119-ABCD-E28C52C097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7ebd"/>
                </a:solidFill>
                <a:latin typeface="Arial"/>
              </a:rPr>
              <a:t>Customer Decision-Making Process</a:t>
            </a:r>
            <a:endParaRPr b="1" lang="en-US" sz="32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ying Behavi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decision process and actions of consumers as they bu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umer Decision-Making Proc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process by which consumers collect and analyze information to make choices among alterna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1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lide Number Placeholder 2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C060-BC24-43C5-8AC6-2416C5120E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464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7ebd"/>
                </a:solidFill>
                <a:latin typeface="Arial"/>
              </a:rPr>
              <a:t>The Consumer</a:t>
            </a:r>
            <a:br>
              <a:rPr sz="2800"/>
            </a:br>
            <a:r>
              <a:rPr b="1" lang="en-US" sz="2800" spc="-1" strike="noStrike">
                <a:solidFill>
                  <a:srgbClr val="3f7ebd"/>
                </a:solidFill>
                <a:latin typeface="Arial"/>
              </a:rPr>
              <a:t>Decision-Making Process</a:t>
            </a:r>
            <a:endParaRPr b="1" lang="en-US" sz="28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98" name="Oval 5"/>
          <p:cNvSpPr/>
          <p:nvPr/>
        </p:nvSpPr>
        <p:spPr>
          <a:xfrm>
            <a:off x="785880" y="5410080"/>
            <a:ext cx="3108240" cy="868320"/>
          </a:xfrm>
          <a:prstGeom prst="ellipse">
            <a:avLst/>
          </a:prstGeom>
          <a:solidFill>
            <a:srgbClr val="ffe18d"/>
          </a:solidFill>
          <a:ln w="0">
            <a:noFill/>
          </a:ln>
          <a:effectLst>
            <a:outerShdw dist="153753" dir="2700000" blurRad="0" rotWithShape="0">
              <a:srgbClr val="b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5302"/>
                </a:solidFill>
                <a:latin typeface="Arial"/>
              </a:rPr>
              <a:t>Problem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val 7"/>
          <p:cNvSpPr/>
          <p:nvPr/>
        </p:nvSpPr>
        <p:spPr>
          <a:xfrm>
            <a:off x="1886040" y="4210200"/>
            <a:ext cx="3108240" cy="868320"/>
          </a:xfrm>
          <a:prstGeom prst="ellipse">
            <a:avLst/>
          </a:prstGeom>
          <a:solidFill>
            <a:srgbClr val="ffe18d"/>
          </a:solidFill>
          <a:ln w="0">
            <a:noFill/>
          </a:ln>
          <a:effectLst>
            <a:outerShdw dist="153753" dir="2700000" blurRad="0" rotWithShape="0">
              <a:srgbClr val="b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5302"/>
                </a:solidFill>
                <a:latin typeface="Arial"/>
              </a:rPr>
              <a:t>Information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8"/>
          <p:cNvSpPr/>
          <p:nvPr/>
        </p:nvSpPr>
        <p:spPr>
          <a:xfrm>
            <a:off x="2984400" y="3009960"/>
            <a:ext cx="3108600" cy="868320"/>
          </a:xfrm>
          <a:prstGeom prst="ellipse">
            <a:avLst/>
          </a:prstGeom>
          <a:solidFill>
            <a:srgbClr val="ffe18d"/>
          </a:solidFill>
          <a:ln w="0">
            <a:noFill/>
          </a:ln>
          <a:effectLst>
            <a:outerShdw dist="153753" dir="2700000" blurRad="0" rotWithShape="0">
              <a:srgbClr val="b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5302"/>
                </a:solidFill>
                <a:latin typeface="Arial"/>
              </a:rPr>
              <a:t>Alternative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9"/>
          <p:cNvSpPr/>
          <p:nvPr/>
        </p:nvSpPr>
        <p:spPr>
          <a:xfrm>
            <a:off x="4083120" y="1809720"/>
            <a:ext cx="3108240" cy="868320"/>
          </a:xfrm>
          <a:prstGeom prst="ellipse">
            <a:avLst/>
          </a:prstGeom>
          <a:solidFill>
            <a:srgbClr val="ffe18d"/>
          </a:solidFill>
          <a:ln w="0">
            <a:noFill/>
          </a:ln>
          <a:effectLst>
            <a:outerShdw dist="153753" dir="2700000" blurRad="0" rotWithShape="0">
              <a:srgbClr val="b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5302"/>
                </a:solidFill>
                <a:latin typeface="Arial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5181480" y="609480"/>
            <a:ext cx="3108600" cy="868320"/>
          </a:xfrm>
          <a:prstGeom prst="ellipse">
            <a:avLst/>
          </a:prstGeom>
          <a:solidFill>
            <a:srgbClr val="ffe18d"/>
          </a:solidFill>
          <a:ln w="0">
            <a:noFill/>
          </a:ln>
          <a:effectLst>
            <a:outerShdw dist="153753" dir="2700000" blurRad="0" rotWithShape="0">
              <a:srgbClr val="b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5302"/>
                </a:solidFill>
                <a:latin typeface="Arial"/>
              </a:rPr>
              <a:t>Postpurchase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2"/>
          <p:cNvSpPr/>
          <p:nvPr/>
        </p:nvSpPr>
        <p:spPr>
          <a:xfrm flipV="1">
            <a:off x="3352680" y="914040"/>
            <a:ext cx="4648320" cy="5257800"/>
          </a:xfrm>
          <a:prstGeom prst="line">
            <a:avLst/>
          </a:prstGeom>
          <a:ln w="76320">
            <a:solidFill>
              <a:srgbClr val="3f7eb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WordArt 19"/>
          <p:cNvSpPr txBox="1"/>
          <p:nvPr/>
        </p:nvSpPr>
        <p:spPr>
          <a:xfrm>
            <a:off x="6477120" y="5410080"/>
            <a:ext cx="2307960" cy="4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age 16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777C-0C09-478F-B23D-F192F5BDFE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7ebd"/>
                </a:solidFill>
                <a:latin typeface="Arial"/>
              </a:rPr>
              <a:t>Customer Decision-Making Process</a:t>
            </a:r>
            <a:endParaRPr b="1" lang="en-US" sz="32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Recognition – Recognize a need, desire, or problem. How urgent is it? Time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Sear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7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Problem - relatively easy to ident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7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roblem - more difficult to find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C158-1E42-49B5-AE34-4E7ADDE13B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7ebd"/>
                </a:solidFill>
                <a:latin typeface="Arial"/>
              </a:rPr>
              <a:t>Customer Decision-Making Process</a:t>
            </a:r>
            <a:endParaRPr b="1" lang="en-US" sz="32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Evaluation – review information gathered and determine which is b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chase – what product, what price, payment method, how to receive product.</a:t>
            </a: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-Purchase Evaluation – did it meet the need or solve the problem? Satisfi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32DA-BD98-461B-BFB7-5F63D17BAD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INFLUENCING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ONSUMER DECISION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cc00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important influences on the consumer decision-making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how consumers and businesses use each of the three types of decision ma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8"/>
          <p:cNvSpPr/>
          <p:nvPr/>
        </p:nvSpPr>
        <p:spPr>
          <a:xfrm>
            <a:off x="152280" y="152280"/>
            <a:ext cx="1371600" cy="914400"/>
          </a:xfrm>
          <a:prstGeom prst="roundRect">
            <a:avLst>
              <a:gd name="adj" fmla="val 16667"/>
            </a:avLst>
          </a:prstGeom>
          <a:solidFill>
            <a:srgbClr val="ca53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-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1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2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1E2F-F404-449B-96A6-B6F22320C1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5486400" y="1801800"/>
            <a:ext cx="3429000" cy="43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a5302"/>
                </a:solidFill>
                <a:latin typeface="Arial"/>
              </a:rPr>
              <a:t>Focus Ques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advertising appealing to children, parents, or both? In what way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45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appealing about the product that would influence parents to purchase Dimetapp Cold &amp; Allergy rather than another brand of medic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rcRect l="0" t="0" r="2457" b="0"/>
          <a:stretch/>
        </p:blipFill>
        <p:spPr>
          <a:xfrm>
            <a:off x="5267160" y="609480"/>
            <a:ext cx="3632400" cy="7207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 rot="16200000">
            <a:off x="180360" y="5748480"/>
            <a:ext cx="76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WYE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COP06_Dimetapp"/>
          <p:cNvPicPr/>
          <p:nvPr/>
        </p:nvPicPr>
        <p:blipFill>
          <a:blip r:embed="rId2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D939-E2C7-4D42-A7CC-ACDE944D5E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Influences on Buying Decision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internal and external factors influence purchase decis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important factors ar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70320" indent="-33300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vidual character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70320" indent="-33300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ltural and social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5B7E-A9A0-4C9E-AD0E-E27891AC791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Individual Characteristic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 Identit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haracteristics &amp; character that make a person unique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jor influence on buying deci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287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0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Important Factor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4ADA-9B25-485D-B51C-ED47E4BC00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Personal Identity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ca5302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ersonalit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an enduring pattern of emotions and behaviors that define an individua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spcBef>
                <a:spcPts val="1001"/>
              </a:spcBef>
              <a:buClr>
                <a:srgbClr val="00a5e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ttitud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a frame of mind developed from a person’s values, beliefs and feeling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D70A-68B2-4536-9287-3AC21EDA36A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Personal Identity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78040" indent="-53352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elf-Concep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an individual’s belief about his or her identity, image, and capabiliti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ifesty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the way a person lives as reflected by material goods, activities, and relationship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AF9B-2E2C-489E-AC34-7DD485DDF7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Personal Identity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1001"/>
              </a:spcBef>
              <a:buClr>
                <a:srgbClr val="ca5302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end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othes, Grooming, Relationships, Activities, etc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1001"/>
              </a:spcBef>
              <a:buClr>
                <a:srgbClr val="ca5302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thnic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cestry, Country of Origin, Language, Trad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1001"/>
              </a:spcBef>
              <a:buClr>
                <a:srgbClr val="ca5302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 of products/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2E19-6411-45F5-BBCF-5CE03328F5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ultural and Social Environment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74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 u="sng">
                <a:solidFill>
                  <a:srgbClr val="000000"/>
                </a:solidFill>
                <a:uFillTx/>
                <a:latin typeface="Arial"/>
              </a:rPr>
              <a:t>Culture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: the history, beliefs, customs &amp; traditions of a group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ong Influence o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Values and Behavi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ities &amp; Relationships, shared by people over many generations.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3A1D-FFE3-4013-8DAB-0D9ECA5ECF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ultural and Social Environment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ocial Environm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groups and organizations that people live and interact with on regular bas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unity, Neighborhood, Social or Business Organization, Churc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022F-894A-42C6-BB7A-578EC15844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ultural and Social Environment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ference Grou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group of people or an organization that an individual admires, identifies with, and wants to be a part of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ubs, Social Organizations, Business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31BC-7BCE-4C8F-AAA3-662B64DD1F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ypes of Decision-Making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umers spend varying amounts of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nsider different factor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when making decis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Types of Decision Mak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D856-452D-4EF7-958F-A0966C5872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ypes of Decision-Making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tine Decision 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spcBef>
                <a:spcPts val="11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chase made frequent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spcBef>
                <a:spcPts val="11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not require much thou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spcBef>
                <a:spcPts val="11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iar with product/br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8861-FEA5-418F-B688-E1B4D1E6ED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UNDERSTANDING 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ONSUMER BEHAVIOR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cc00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importance of understanding consumer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 an understanding of consumers’ wants and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152280" y="152280"/>
            <a:ext cx="1371600" cy="914400"/>
          </a:xfrm>
          <a:prstGeom prst="roundRect">
            <a:avLst>
              <a:gd name="adj" fmla="val 16667"/>
            </a:avLst>
          </a:prstGeom>
          <a:solidFill>
            <a:srgbClr val="ca53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-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ADCC-79B1-4400-9487-E7F555DF2A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ypes of Decision-Making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1100"/>
              </a:spcBef>
              <a:buClr>
                <a:srgbClr val="ca5302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ed Decision Mak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816480" indent="-49608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e time to consider dec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16480" indent="-49608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ybe more expensive produ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16480" indent="-49608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ybe purchase less frequent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16480" indent="-49608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utine product is unavail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9065-F3A3-4C97-B400-0C7770B565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ypes of Decision-Making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ca530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ve Decision 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 through all 5 D.M.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spcBef>
                <a:spcPts val="95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nsive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(home, car, vacation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spcBef>
                <a:spcPts val="95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valuate alternatives extensively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4F1C-0EAF-41AC-8EE0-F973DC47F92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Marketers’ Response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ers need to understand how customers make decisions so that they can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rovide customer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ith 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right amount of inf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nvince consumer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o purchase their produc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919D-02CF-4667-AFF9-26AFAB42E8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Marketers’ Response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ers want the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pportunity to explain the benefi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f their products and to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emonstrate how they can satisfy consumer need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2AD2-4BFA-4F55-B68D-C794938178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Marketers’ Response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e whether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lnSpc>
                <a:spcPct val="90000"/>
              </a:lnSpc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nsumer considers altern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341280">
              <a:lnSpc>
                <a:spcPct val="90000"/>
              </a:lnSpc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e opportunity to explain their products and benef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lnSpc>
                <a:spcPct val="90000"/>
              </a:lnSpc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nsumer is brand loy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341280">
              <a:lnSpc>
                <a:spcPct val="90000"/>
              </a:lnSpc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product available, remind customer of the value of produ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E152-27BF-4680-A9C9-581F283A67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onsumer Behavior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ing Begins with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ing Concept st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7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responsive to consu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umer Behavi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study of consumers and how they make deci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334C-8E18-486E-8994-2CD89D32AA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onsumer Behavior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ful business continually:</a:t>
            </a:r>
            <a:br>
              <a:rPr sz="3200"/>
            </a:b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ider customers’ wants and need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they</a:t>
            </a:r>
            <a:br>
              <a:rPr sz="3200"/>
            </a:b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an &amp; implement their marketing strate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E855-0B33-4F7D-8727-25F81078A7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onsumer Behavior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nal consu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7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y products/services for personal 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siness consu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7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y goods/services to produce and market other goods/services or for res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D758-B7F9-428E-934B-4B83A4BE04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onsumers’ Wants and Need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onsumers have wants and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n unfulfilled des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7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zza, BMW, Vacation to Fra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ir Highlights, Super Bowl Ticke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nything you require to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7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tritious Food, Sleep, Shelter from Weather, Air to Breathe, Clean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2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4A9F-7093-423D-BEFD-6EFFF5F10D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Maslow’s Hierarchy of Needs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Page 158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grpSp>
        <p:nvGrpSpPr>
          <p:cNvPr id="140" name="Group 26"/>
          <p:cNvGrpSpPr/>
          <p:nvPr/>
        </p:nvGrpSpPr>
        <p:grpSpPr>
          <a:xfrm>
            <a:off x="685800" y="1866600"/>
            <a:ext cx="4648320" cy="4305240"/>
            <a:chOff x="685800" y="1866600"/>
            <a:chExt cx="4648320" cy="4305240"/>
          </a:xfrm>
        </p:grpSpPr>
        <p:pic>
          <p:nvPicPr>
            <p:cNvPr id="141" name="Picture 27" descr=""/>
            <p:cNvPicPr/>
            <p:nvPr/>
          </p:nvPicPr>
          <p:blipFill>
            <a:blip r:embed="rId1"/>
            <a:srcRect l="10742" t="75738" r="42465" b="3685"/>
            <a:stretch/>
          </p:blipFill>
          <p:spPr>
            <a:xfrm>
              <a:off x="685800" y="5230800"/>
              <a:ext cx="4648320" cy="914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" name="Group 28"/>
            <p:cNvGrpSpPr/>
            <p:nvPr/>
          </p:nvGrpSpPr>
          <p:grpSpPr>
            <a:xfrm>
              <a:off x="685800" y="1866600"/>
              <a:ext cx="4648320" cy="4305240"/>
              <a:chOff x="685800" y="1866600"/>
              <a:chExt cx="4648320" cy="4305240"/>
            </a:xfrm>
          </p:grpSpPr>
          <p:sp>
            <p:nvSpPr>
              <p:cNvPr id="143" name="AutoShape 29"/>
              <p:cNvSpPr/>
              <p:nvPr/>
            </p:nvSpPr>
            <p:spPr>
              <a:xfrm flipH="1" flipV="1">
                <a:off x="2971800" y="1866240"/>
                <a:ext cx="2362320" cy="430524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AutoShape 30"/>
              <p:cNvSpPr/>
              <p:nvPr/>
            </p:nvSpPr>
            <p:spPr>
              <a:xfrm flipV="1">
                <a:off x="685800" y="1866240"/>
                <a:ext cx="2362320" cy="430524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5" name="Group 22"/>
          <p:cNvGrpSpPr/>
          <p:nvPr/>
        </p:nvGrpSpPr>
        <p:grpSpPr>
          <a:xfrm>
            <a:off x="685800" y="1866600"/>
            <a:ext cx="4648320" cy="4305240"/>
            <a:chOff x="685800" y="1866600"/>
            <a:chExt cx="4648320" cy="4305240"/>
          </a:xfrm>
        </p:grpSpPr>
        <p:pic>
          <p:nvPicPr>
            <p:cNvPr id="146" name="Picture 23" descr=""/>
            <p:cNvPicPr/>
            <p:nvPr/>
          </p:nvPicPr>
          <p:blipFill>
            <a:blip r:embed="rId2"/>
            <a:srcRect l="10742" t="58585" r="42465" b="3685"/>
            <a:stretch/>
          </p:blipFill>
          <p:spPr>
            <a:xfrm>
              <a:off x="685800" y="4468680"/>
              <a:ext cx="464832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AutoShape 24"/>
            <p:cNvSpPr/>
            <p:nvPr/>
          </p:nvSpPr>
          <p:spPr>
            <a:xfrm flipH="1" flipV="1">
              <a:off x="2971800" y="1866240"/>
              <a:ext cx="2362320" cy="430524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AutoShape 25"/>
            <p:cNvSpPr/>
            <p:nvPr/>
          </p:nvSpPr>
          <p:spPr>
            <a:xfrm flipV="1">
              <a:off x="685800" y="1866240"/>
              <a:ext cx="2362320" cy="430524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Group 18"/>
          <p:cNvGrpSpPr/>
          <p:nvPr/>
        </p:nvGrpSpPr>
        <p:grpSpPr>
          <a:xfrm>
            <a:off x="685800" y="1866600"/>
            <a:ext cx="4662000" cy="4305240"/>
            <a:chOff x="685800" y="1866600"/>
            <a:chExt cx="4662000" cy="4305240"/>
          </a:xfrm>
        </p:grpSpPr>
        <p:pic>
          <p:nvPicPr>
            <p:cNvPr id="150" name="Picture 19" descr=""/>
            <p:cNvPicPr/>
            <p:nvPr/>
          </p:nvPicPr>
          <p:blipFill>
            <a:blip r:embed="rId3"/>
            <a:srcRect l="10770" t="41171" r="42440" b="3702"/>
            <a:stretch/>
          </p:blipFill>
          <p:spPr>
            <a:xfrm>
              <a:off x="689040" y="3695760"/>
              <a:ext cx="4647960" cy="24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AutoShape 20"/>
            <p:cNvSpPr/>
            <p:nvPr/>
          </p:nvSpPr>
          <p:spPr>
            <a:xfrm flipH="1" flipV="1">
              <a:off x="2985480" y="1866240"/>
              <a:ext cx="2361960" cy="430524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AutoShape 21"/>
            <p:cNvSpPr/>
            <p:nvPr/>
          </p:nvSpPr>
          <p:spPr>
            <a:xfrm flipV="1">
              <a:off x="685800" y="1866240"/>
              <a:ext cx="2362320" cy="430524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Group 14"/>
          <p:cNvGrpSpPr/>
          <p:nvPr/>
        </p:nvGrpSpPr>
        <p:grpSpPr>
          <a:xfrm>
            <a:off x="685800" y="1866600"/>
            <a:ext cx="4648320" cy="4305240"/>
            <a:chOff x="685800" y="1866600"/>
            <a:chExt cx="4648320" cy="4305240"/>
          </a:xfrm>
        </p:grpSpPr>
        <p:pic>
          <p:nvPicPr>
            <p:cNvPr id="154" name="Picture 15" descr=""/>
            <p:cNvPicPr/>
            <p:nvPr/>
          </p:nvPicPr>
          <p:blipFill>
            <a:blip r:embed="rId4"/>
            <a:srcRect l="10742" t="24270" r="42465" b="3685"/>
            <a:stretch/>
          </p:blipFill>
          <p:spPr>
            <a:xfrm>
              <a:off x="685800" y="2944800"/>
              <a:ext cx="464832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AutoShape 16"/>
            <p:cNvSpPr/>
            <p:nvPr/>
          </p:nvSpPr>
          <p:spPr>
            <a:xfrm flipH="1" flipV="1">
              <a:off x="2971800" y="1866240"/>
              <a:ext cx="2362320" cy="430524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AutoShape 17"/>
            <p:cNvSpPr/>
            <p:nvPr/>
          </p:nvSpPr>
          <p:spPr>
            <a:xfrm flipV="1">
              <a:off x="685800" y="1866240"/>
              <a:ext cx="2362320" cy="430524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Group 13"/>
          <p:cNvGrpSpPr/>
          <p:nvPr/>
        </p:nvGrpSpPr>
        <p:grpSpPr>
          <a:xfrm>
            <a:off x="685800" y="1866600"/>
            <a:ext cx="4648320" cy="4305240"/>
            <a:chOff x="685800" y="1866600"/>
            <a:chExt cx="4648320" cy="4305240"/>
          </a:xfrm>
        </p:grpSpPr>
        <p:pic>
          <p:nvPicPr>
            <p:cNvPr id="158" name="Picture 9" descr=""/>
            <p:cNvPicPr/>
            <p:nvPr/>
          </p:nvPicPr>
          <p:blipFill>
            <a:blip r:embed="rId5"/>
            <a:srcRect l="10742" t="0" r="42465" b="3685"/>
            <a:stretch/>
          </p:blipFill>
          <p:spPr>
            <a:xfrm>
              <a:off x="685800" y="1866960"/>
              <a:ext cx="4648320" cy="42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AutoShape 10"/>
            <p:cNvSpPr/>
            <p:nvPr/>
          </p:nvSpPr>
          <p:spPr>
            <a:xfrm flipH="1" flipV="1">
              <a:off x="2971800" y="1866240"/>
              <a:ext cx="2362320" cy="430524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AutoShape 11"/>
            <p:cNvSpPr/>
            <p:nvPr/>
          </p:nvSpPr>
          <p:spPr>
            <a:xfrm flipV="1">
              <a:off x="685800" y="1866240"/>
              <a:ext cx="2362320" cy="430524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Text Box 4"/>
          <p:cNvSpPr/>
          <p:nvPr/>
        </p:nvSpPr>
        <p:spPr>
          <a:xfrm>
            <a:off x="3813480" y="2971800"/>
            <a:ext cx="28310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a5302"/>
                </a:solidFill>
                <a:latin typeface="Arial"/>
              </a:rPr>
              <a:t>Este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spect and recogni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4277520" y="3733920"/>
            <a:ext cx="28051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a5302"/>
                </a:solidFill>
                <a:latin typeface="Arial"/>
              </a:rPr>
              <a:t>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riends, love, belong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4694760" y="4454640"/>
            <a:ext cx="42912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a5302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hysical safety and economic secur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107680" y="5292720"/>
            <a:ext cx="34560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a5302"/>
                </a:solidFill>
                <a:latin typeface="Arial"/>
              </a:rPr>
              <a:t>Physio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ood, sleep, water, shelter, ai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3432240" y="2244600"/>
            <a:ext cx="28188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a5302"/>
                </a:solidFill>
                <a:latin typeface="Arial"/>
              </a:rPr>
              <a:t>Self-Actu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realize your potent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EE57-037A-4EF2-A551-A7BB27FD791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Different People, Different Level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ers must realize that people are at different levels on the hierarchy of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low’s Hierarchy of needs illustrates the progression people follow in satisfying their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ers must understand consumer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7T01:09:05Z</dcterms:created>
  <dc:creator/>
  <dc:description/>
  <dc:language>en-US</dc:language>
  <cp:lastModifiedBy>jsundlin</cp:lastModifiedBy>
  <dcterms:modified xsi:type="dcterms:W3CDTF">2012-11-27T18:19:16Z</dcterms:modified>
  <cp:revision>49</cp:revision>
  <dc:subject/>
  <dc:title>MARKETING STARTS  WITH CUSTOMERS</dc:title>
</cp:coreProperties>
</file>